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A64-B0DB-4892-9772-F00914D3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FEF-94D1-43A5-B8E2-355A4E2C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C1A-069D-4CD3-BC40-BFBB0F09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C8B-96C4-43EA-9CCD-56D6B866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A4AA9-D999-44C1-A9AD-19397D06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139FC-FBD5-4F6E-AECA-DDC3A31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F6919-91FB-402F-A91F-CDCA8F0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2AA82-D5C5-4AAB-B94D-EAE8289D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D18B1-EDD9-4F1D-A180-DBA0B12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91CE1-83AF-4E21-A951-84681EBC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8EE07-0A98-40E1-B448-E7C4CDCB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675-DAA7-434B-9509-6356F7E0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10E07-4CA5-44FD-967A-4575E8E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0CD70-A08E-46EE-B462-0A1F524B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506F5-94F9-447A-917B-F65D3F7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A6E51-AA5E-449B-9385-A0AC5D31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2CAE5-4714-4F9A-8DC4-2EF16CDA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5EA-EB61-40D7-85B3-503446B0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10C-81CA-4F9D-ABCB-C9B437C6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89D-8560-4D8F-9E38-21202D5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011-D877-43BB-98F8-1B09066E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58E-3566-4F2D-AC61-06D91F4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51F-19AD-4706-A872-0D1B7205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1CD-0775-4389-98EB-0665E3EF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5F59-19E7-4542-AB95-E6B3D6CDC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4DCE-401B-42A8-91D4-DE9F38C596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Hayden and Aar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stimat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 means to round before you ad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Flashcard of a math symbol for Approximately Equal To"/>
          <p:cNvPicPr/>
          <p:nvPr/>
        </p:nvPicPr>
        <p:blipFill>
          <a:blip r:embed="rId1"/>
          <a:stretch/>
        </p:blipFill>
        <p:spPr>
          <a:xfrm>
            <a:off x="6324480" y="0"/>
            <a:ext cx="25815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means a answer to a adding prop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Flashcard of a math symbol for Sum"/>
          <p:cNvPicPr/>
          <p:nvPr/>
        </p:nvPicPr>
        <p:blipFill>
          <a:blip r:embed="rId1"/>
          <a:stretch/>
        </p:blipFill>
        <p:spPr>
          <a:xfrm>
            <a:off x="3048120" y="2819520"/>
            <a:ext cx="2809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fferenc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o a subtraction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25815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o a multiplication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24440" y="2714760"/>
            <a:ext cx="25286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otient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o a division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3352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imal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Between a whole number and a decimal fraction.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886200" y="2714760"/>
            <a:ext cx="12333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41:16Z</dcterms:created>
  <dc:creator>AARON.SOLLY</dc:creator>
  <dc:description/>
  <dc:language>en-US</dc:language>
  <cp:lastModifiedBy>AARON.SOLLY</cp:lastModifiedBy>
  <dcterms:modified xsi:type="dcterms:W3CDTF">2010-11-23T19:05:18Z</dcterms:modified>
  <cp:revision>3</cp:revision>
  <dc:subject/>
  <dc:title>Estimate</dc:title>
</cp:coreProperties>
</file>